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32D2-8ABE-4EDC-B1BE-A61D383B0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2805-2C6E-4D3A-B0E5-BCA2146FB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054-624C-4B8C-81BC-78B688D5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63D-43C0-4CA3-AE2D-F8475A28C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3F0E-A297-4E69-BF17-861549BA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F32C-F0F6-4306-837E-DF72A8BF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24DF-6137-4F35-83C7-71CB117C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112B-E2B7-4795-8357-BCD79BF4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29CB-B785-4FB7-9C77-F078E14A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4A8C-01FA-4B53-A9F7-681D0617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82BB-2DD5-4772-9213-013B9B09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21F-D36B-45D9-8972-1DD8D91C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CED8-66C4-4DFB-B440-BEE7E33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DD41-E987-4C71-BADA-6D4B4872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C193-6E35-4C03-BFAB-1A8500C2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CC31-E24A-4BC1-B632-ED84FC965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F28A-0901-4AA9-A36E-F15FC095E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26C-6F56-4D85-8EAB-3626CF79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CF07-172D-4AC7-916E-1A404814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9800-2EF2-4BB7-89A0-060C6322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7B66-7171-4B40-8799-587612A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35E0-7DC4-4E0F-B01F-1F6D4EDF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0934-B39C-4149-A4A5-3C69BB444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62F-CC22-4D4B-BDAE-676CFC41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B033-D58B-4F50-9807-9083BAFADE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1D62-DFE6-4F61-AA1C-FA354AA0845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Основные направления деятельности ПМПК на современном этапе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3635280" y="5035680"/>
            <a:ext cx="53085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Председатель ПМПК г. Казани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Июдина Светлана Владимировна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8 вида (умственно отсталые) школа №61, №142, №76, школа-интернат №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разовательной программе общего образования для учащихся с интеллектуальной недостаточность (лёгкой, умеренной, глубокой) степени в ….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 с умственной отсталостью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общего образования с учётом индивидуальных психофизических особенностей, обусловленных лёгкой интеллектуальной недостаточностью в … классе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направления деятельност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проведение обследования детей в возрасте от 0 до 18 лет в целях своевременного выявления особенностей в физическом или психическом развитии или отклонений в поведении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подготовка по результатам обследования рекомендаций по оказанию детям психолого-медико-педагогической помощи и организации их обучения и воспитания, подтверждение, уточнение или изменение ранее данных комиссией рекомендаци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оказание консультативной помощи родителям (законным представителям) детей, работникам образовательных учреждений, учреждений социального обслуживания, здравоохранения, других организаций по вопросам воспитания, обучения и коррекции нарушений развития детей с ограниченными возможностями здоровья и девиантным поведением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оказание учреждениям медико-социальной экспертизы содействия в разработке индивидуальной программы реабилитации ребенка-инвалид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26920" y="2492280"/>
            <a:ext cx="7693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)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существление учета данных о детях с ограниченными возможностями здоровья и (или) девиантным (общественно опасным) поведением, проживающих в г. Казан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подготовка рекомендаций обучающимся 9, 11 классов с ограниченными возможностями здоровья о форме сдачи государственной итоговой аттестаци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бучающийся с ОВЗ это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«Физическое лицо, имеющее недостатки в физическом или психологическом развитии, подтверждённые ПМПК и препятствующие получению образования без создания специальных условий». (ст. 2 Федерального закона «Об образовании в РФ»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группу школьников с ОВЗ входят дети с различными нарушениями слуха, зрения, речи, опорно-двигательного аппарата, интеллекта, расстройствами аутистического спектр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определении формы сдачи ГИА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паспорта или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бучающего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школы о направлении ребёнка на ПМПК с целью определения формы сдачи ГИ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риказ о домашнем обучени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равка от врача-психиатра с развёрнутым диагноз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слуха – направление сурдолога с развёрнутым диагнозом и данными о восприятии шёпотной речи, аудиометрическое обследование (аудиограмм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зрения – направление окулиста с развёрнутым диагнозом и указанием остроты зр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ля детей с нарушением опорно-двигательного аппарата – направление невролога с развёрнутым диагнозо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Условия, необходимые для перевода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перв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личие у ребёнка умственной отсталости, подтверждённое заключением районного врача психиатра (заключение платных специалистов не принимаются!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второ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стойкое неусвоение основной общеобразовательной программы, подтверждённое итоговыми оценками за каждую четверть и за год (не менее 2 – 3 двоек!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 ПМПК могут быть направлены школьник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с 1 по 4 класс включительно!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ородская комиссия начинает приём учеников общеобразовательных школ с ноября по итогам 1 четверти в течение всего календарного год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спубликанская ПМПК принимает детей г. Казан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997000"/>
            <a:ext cx="3013200" cy="30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 5 по 20 ма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о 2 по 10 июн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Последние 3 недели авгус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51280" y="2362320"/>
            <a:ext cx="496872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Следовательно перевод ребёнка из одной образовательной организации в другую осуществляется только на следующий учебный год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.е. не зависимо от того, когда ребёнок прошёл городскую комиссию, учебный год он доучивается в своей школ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747360" y="828360"/>
            <a:ext cx="7797960" cy="8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Основная цель ПМП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900000" y="2361960"/>
            <a:ext cx="763128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воевременное выявление детей с особенностями в физическом или психическом развитии или отклонениями в поведении, проведение их комплексного психолого-медико-педагогического обследования и подготовка по результатам обследования рекомендаций по оказанию им психолого-медико-педагогической помощи и организации их обучения и воспитания, а также подтверждения, уточнения или изменения ранее данных рекомендаций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Пакет документов, предоставляемых на ПМПК при переводе ребёнка из одной образовательной организации в другую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видетельства о рождении ребён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Копия справки, подтверждающей факт инвалидности (при наличии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домовой книги о составе семь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истории развития ребёнка (от участкового педиатр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врача-психиатра на 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Характеристика от классного руководител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Рабочие тетради по русскому языку и математик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Табель успеваемости за четверть с выставленными двойками, а в конце года копия личного дела ученика, где не должно быть указано, что ребёнок переведён в следующий класс, а в табеле успеваемости в четвертных, полугодовых, итоговых оценках выставлены не менее двух – трёх двоек по основным предмета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Выписка из решения педсовета о направлении ребёнка на ПМПК с целью определении дальнейшей программы обуче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Направление районного отдела образования на РПМП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Наши координаты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настоящий момент ПМПК осуществляет свою деятельность на базе средней общеобразовательной школы №168 и находится по адресу </a:t>
            </a: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л. Годовикова, д.8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Телефон комиссии 240-98-94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Для достижения этой цели в ПМПК осуществляетс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профессиональная комплексная диагностика, направленная на выявление актуальных и потенциальных возможностей развития детей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выбор или изменение образовательного маршрута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контроль эффективности разработанных рекомендаций в отношении  детей, прошедших обследование в ПМП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Запросы родителей при обращении в ПМП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филя дошкольного учрежд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пределение программы школьного обуч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Решение вопроса МСЭ (при оформлении или продлении инвалидности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лучение рекомендаций о форме сдачи ГИ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26920" y="2349000"/>
            <a:ext cx="76932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С 2013 г. ПМПК не даёт рекомендаций о воспитании и обучении ребёнка в каком-либо конкретном учрежд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 компетенции комиссии определение </a:t>
            </a:r>
            <a:r>
              <a:rPr b="1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программы обучения ребёнка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Выбор образовательного учреждения остаётся за родителя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4000" y="2276280"/>
            <a:ext cx="828036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Городская ПМПК работает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весь календарный го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ведётся строго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по предварительной запис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аться можно как по телефону, так и лично обратившись по месту работы комисс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иём осуществляется 2 раза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пись на приём и консультирование ведётся ежедневно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Коллегиальное заключение ПМПК включает в себя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2361960"/>
            <a:ext cx="835344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Выводы о наличии либо отсутствии у ребёнка особенностей в физическом или психическом развитии или отклонений в поведени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Рекомендации по: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формы получения образования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Определению образовательной программы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Форм и методов психолого-педагогической помощ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Созданию специальных условий для получения образования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ации ПМПК по определению образовательной программы: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обучающихся в специальных образовательных учреждениях 1 – 2 вида (глухие и слабослышащие) – школа-интернат №6 им Ласточкиной; 3 – 4 вида (слепые и слабовидящие) – школа №172; 5 вида (тяжёлые нарушения речи) – школа-интернат №7; 6 вида (нарушения опорно-двигательного аппарата) – школа №78 и школа-интернат №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сновной общеобразовательной программе (начального, основного, среднего) общего образования для учащихся с нарушением (слуха, зрения, речи, опорно-двигательного аппарата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981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для детей, имеющих нарушения слуха, зрения, речи, ОДА, но обучающихся в общеобразовательной школе мы рекомендуе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«Обучение по адаптированной образовательной программе (начального, основного, среднего) общего образования с учётом индивидуальных психофизических особенностей, обусловленных нарушением (слуха, зрения, речи, ОДА, эмоционально-волевой сферы) в … класс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7T11:25:08Z</dcterms:created>
  <dc:creator>Your User Name</dc:creator>
  <dc:description/>
  <dc:language>en-US</dc:language>
  <cp:lastModifiedBy>Your User Name</cp:lastModifiedBy>
  <dcterms:modified xsi:type="dcterms:W3CDTF">2015-12-03T09:21:44Z</dcterms:modified>
  <cp:revision>8</cp:revision>
  <dc:subject/>
  <dc:title>Слайд 1</dc:title>
</cp:coreProperties>
</file>